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11A9-E242-4B74-A253-78093797E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8A2C-7163-480E-B2D4-B395664A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A57D-69BF-456C-9D33-97F7F00F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7CD9-D92D-4B2F-A4E9-1C9433E08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22AE-97D1-49BF-8838-15DB238D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6DF5-1D3F-432D-B4F8-7C7E6994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9761-6C15-40EC-9842-E2AF62CE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DE72-030D-4DCC-871D-BB460C70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64EB-DC5B-48CF-9D99-C6796CC2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9215-CD7E-4A21-B7F7-27BC95C0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EB1E-F997-4E8A-89A4-93204756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7582-43B1-4125-AE5C-1316C0A3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C993-07C1-48D7-B14A-EDD17BCD4D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gi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gi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2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Los medio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038480" y="4419720"/>
            <a:ext cx="1168560" cy="1276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2133720" cy="612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010280" y="0"/>
            <a:ext cx="1828800" cy="987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4952880"/>
            <a:ext cx="1600200" cy="1551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7162920" y="1600200"/>
            <a:ext cx="1676160" cy="1017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80880" y="1752480"/>
            <a:ext cx="1440000" cy="1123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7467480" y="5618160"/>
            <a:ext cx="1371600" cy="1239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3733920" y="990720"/>
            <a:ext cx="1514520" cy="1141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3733920" y="5967360"/>
            <a:ext cx="1739880" cy="890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3962520" y="2666880"/>
            <a:ext cx="1295280" cy="1068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7238880" y="3505320"/>
            <a:ext cx="1447920" cy="1199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609480" y="3505320"/>
            <a:ext cx="10652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152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Los medio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62520" y="3962520"/>
            <a:ext cx="1098360" cy="1199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133720" cy="612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010280" y="0"/>
            <a:ext cx="1828800" cy="987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0" y="4952880"/>
            <a:ext cx="1600200" cy="1551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7162920" y="1600200"/>
            <a:ext cx="1676160" cy="1017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380880" y="1752480"/>
            <a:ext cx="1440000" cy="1123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7467480" y="5618160"/>
            <a:ext cx="1371600" cy="1239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3809880" y="1066680"/>
            <a:ext cx="1514520" cy="1141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9"/>
          <a:stretch/>
        </p:blipFill>
        <p:spPr>
          <a:xfrm>
            <a:off x="3657600" y="5715000"/>
            <a:ext cx="1801800" cy="922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0"/>
          <a:stretch/>
        </p:blipFill>
        <p:spPr>
          <a:xfrm>
            <a:off x="3886200" y="2666880"/>
            <a:ext cx="1295280" cy="1068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1"/>
          <a:stretch/>
        </p:blipFill>
        <p:spPr>
          <a:xfrm>
            <a:off x="7238880" y="3505320"/>
            <a:ext cx="1447920" cy="1199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2"/>
          <a:stretch/>
        </p:blipFill>
        <p:spPr>
          <a:xfrm>
            <a:off x="609480" y="3429000"/>
            <a:ext cx="10652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2" dur="1" fill="hold"/>
                                  <p:tgtEl>
                                    <p:spTgt spid="6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22:04:05Z</dcterms:created>
  <dc:creator>Deborah</dc:creator>
  <dc:description/>
  <dc:language>en-US</dc:language>
  <cp:lastModifiedBy>Chris Fuller</cp:lastModifiedBy>
  <dcterms:modified xsi:type="dcterms:W3CDTF">2006-09-30T14:49:42Z</dcterms:modified>
  <cp:revision>5</cp:revision>
  <dc:subject/>
  <dc:title>PowerPoint Presentation</dc:title>
</cp:coreProperties>
</file>